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D35-E7C8-4861-9133-FD425EC3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C77-F828-410D-8D14-A50655D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EE7-490E-468D-B212-04139681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FD4-A714-4C41-B4B2-708BE7FA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653-D070-45F8-B723-2A18EEDF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560-232F-49F6-88B1-5C32C5C0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E19-BF79-4CDF-A3D8-1D97F0B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AA3-A175-4383-A9E2-C08D8604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025-B8EF-4A95-85EC-5B123A9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557-5B44-44E9-BD0A-D3381A4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1DA-E6E1-40ED-BE34-7E86CB4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D12-09BF-441E-9774-04F3EA6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A105-74C2-48A1-9F9A-103D506EE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osibirsk,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ailey, A.C., and E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7880"/>
            <a:ext cx="9144000" cy="550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" y="0"/>
            <a:ext cx="90928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8160"/>
            <a:ext cx="9144000" cy="5521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920"/>
            <a:ext cx="9144000" cy="684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7760" y="0"/>
            <a:ext cx="6648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03320" y="0"/>
            <a:ext cx="7137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360"/>
            <a:ext cx="9144000" cy="683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57480" y="0"/>
            <a:ext cx="4829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00:52Z</dcterms:created>
  <dc:creator>baileygardner</dc:creator>
  <dc:description/>
  <dc:language>en-US</dc:language>
  <cp:lastModifiedBy>baileygardner</cp:lastModifiedBy>
  <dcterms:modified xsi:type="dcterms:W3CDTF">2008-11-24T14:00:59Z</dcterms:modified>
  <cp:revision>1</cp:revision>
  <dc:subject/>
  <dc:title>Novosibirsk, Russia</dc:title>
</cp:coreProperties>
</file>